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895-09BA-47C5-81B4-D4420512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CC6-3F91-4B4B-ABE0-FF25E25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101-1EED-43F6-B1EF-39661B65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872-E44C-4E4F-8317-D44B5177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0DB-3DDE-4A7D-B4FA-7229406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7F3-6BA5-4912-8C82-9F38027E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C19-4911-476D-8B06-2641A785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CE9-62FC-42B8-9473-74B3087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250-B706-4A10-A850-FC77AC1F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94B-8E0B-4EA7-8487-9E82BA59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975-BF94-4B1C-9D1C-DCA979BD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2A5-43BB-4F43-B453-16B2D21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BF5-AD8D-456A-89FB-4D4C0DBE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p-medien.com/" TargetMode="External"/><Relationship Id="rId2" Type="http://schemas.openxmlformats.org/officeDocument/2006/relationships/hyperlink" Target="mailto:cipmedien@ao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239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erz- oder Kopfschmerz-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560" y="125748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 Liegt eine anhaltende somatoforme Schmerzstörung vor (F45.4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6240" y="20858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1200" y="2305080"/>
            <a:ext cx="23619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-Befund chronische Schmerzen oder Kopfschmerzen nachweisen, die durch eine körperliche Ursache nicht oder nicht ausreichend erklärt werden könn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VDS14 Syndrom 14 oder 1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640" y="3559320"/>
            <a:ext cx="2952720" cy="1189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ieser Beschwerden durch eine tatsächliche körperliche Erkrankung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ine adäquate medizinische Untersuchung muss hierfür als Voraussetzung betrachtet werden.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merzen aufgrund psychophysiologischer Mechanismen wie Muskelspannungsschmerzen oder Migräne, für die auch eine psychogene Verursachung angenommen werden kann, sollen unter F54 verschlüssel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1200" y="5187960"/>
            <a:ext cx="236196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ortäuschung oder Simulation der Beschwerd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2640" y="6035760"/>
            <a:ext cx="236232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 psychogener Schmerz im Verlauf einer Depression oder Schizophrenie 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VDS14 depressives und psychotisches Syndr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2640" y="7292880"/>
            <a:ext cx="23623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eine histrionische Verarbeitung organisch verursachter Schmerzen ausgeschlossen werden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2640" y="8292960"/>
            <a:ext cx="23623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tt der Schmerz in Verbindung mit emotionalen und/oder psychosozialen Problemen 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2"/>
            <a:endCxn id="46" idx="0"/>
          </p:cNvCxnSpPr>
          <p:nvPr/>
        </p:nvCxnSpPr>
        <p:spPr>
          <a:xfrm>
            <a:off x="1962000" y="3007440"/>
            <a:ext cx="360" cy="55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963800" y="301464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71840" y="4054320"/>
            <a:ext cx="15717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3"/>
            <a:endCxn id="53" idx="1"/>
          </p:cNvCxnSpPr>
          <p:nvPr/>
        </p:nvCxnSpPr>
        <p:spPr>
          <a:xfrm>
            <a:off x="3438360" y="4153680"/>
            <a:ext cx="9338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438360" y="395136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6" idx="2"/>
            <a:endCxn id="47" idx="0"/>
          </p:cNvCxnSpPr>
          <p:nvPr/>
        </p:nvCxnSpPr>
        <p:spPr>
          <a:xfrm>
            <a:off x="1962000" y="4748400"/>
            <a:ext cx="360" cy="43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963800" y="475776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1840" y="5253120"/>
            <a:ext cx="15717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7" idx="3"/>
            <a:endCxn id="58" idx="1"/>
          </p:cNvCxnSpPr>
          <p:nvPr/>
        </p:nvCxnSpPr>
        <p:spPr>
          <a:xfrm>
            <a:off x="3143160" y="5356440"/>
            <a:ext cx="122904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143160" y="514512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7" idx="2"/>
            <a:endCxn id="48" idx="0"/>
          </p:cNvCxnSpPr>
          <p:nvPr/>
        </p:nvCxnSpPr>
        <p:spPr>
          <a:xfrm>
            <a:off x="1962000" y="5525280"/>
            <a:ext cx="2160" cy="51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963800" y="553068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71840" y="6281640"/>
            <a:ext cx="15717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12 oder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8" idx="3"/>
            <a:endCxn id="63" idx="1"/>
          </p:cNvCxnSpPr>
          <p:nvPr/>
        </p:nvCxnSpPr>
        <p:spPr>
          <a:xfrm>
            <a:off x="3144960" y="6386760"/>
            <a:ext cx="122724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3144960" y="6162840"/>
            <a:ext cx="39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8" idx="2"/>
            <a:endCxn id="49" idx="0"/>
          </p:cNvCxnSpPr>
          <p:nvPr/>
        </p:nvCxnSpPr>
        <p:spPr>
          <a:xfrm>
            <a:off x="1963800" y="6738120"/>
            <a:ext cx="360" cy="55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962000" y="674676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9" idx="2"/>
            <a:endCxn id="50" idx="0"/>
          </p:cNvCxnSpPr>
          <p:nvPr/>
        </p:nvCxnSpPr>
        <p:spPr>
          <a:xfrm>
            <a:off x="1963800" y="7751880"/>
            <a:ext cx="360" cy="54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962000" y="775800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44960" y="8313840"/>
            <a:ext cx="39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90920" y="8288280"/>
            <a:ext cx="197172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45.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haltende somatoforme Schmerzstö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0" idx="3"/>
            <a:endCxn id="71" idx="1"/>
          </p:cNvCxnSpPr>
          <p:nvPr/>
        </p:nvCxnSpPr>
        <p:spPr>
          <a:xfrm flipV="1">
            <a:off x="3144960" y="8517600"/>
            <a:ext cx="124632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78360" y="1720800"/>
            <a:ext cx="234612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p-medien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13:58:10Z</dcterms:created>
  <dc:creator>stefan holzer</dc:creator>
  <dc:description/>
  <dc:language>en-US</dc:language>
  <cp:lastModifiedBy>Dr. Sulz</cp:lastModifiedBy>
  <dcterms:modified xsi:type="dcterms:W3CDTF">2006-02-12T06:47:42Z</dcterms:modified>
  <cp:revision>10</cp:revision>
  <dc:subject/>
  <dc:title>PowerPoint-Präsentation</dc:title>
</cp:coreProperties>
</file>